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379E-D1FD-4EF8-B059-5F7FFB3A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8F6A-F73A-4DC2-9168-C90BB152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E581-28A7-4BCF-B891-500C4AB5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99DF-D92B-46EC-92F0-00BC6ACA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24D6-EB83-4190-8806-EAB28325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A056-E2ED-42CC-993F-AF47961F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E7F8-15D7-47ED-BEC3-DAF0A114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2504-8A74-43BD-8002-87440EA5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E19-92C5-49BC-93DC-FBA214EC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82D-B84D-41FF-9238-CD6A09B6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E989-EE82-4E25-BB51-1AA8C5D7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7CC2-72F2-44C3-9774-E6F8369C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D833-127B-45CD-B80E-945DE29B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50A-F89E-43F3-BA72-6EF672DA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801B-C6BE-4CCB-B930-CED01F77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9E0A-C785-4608-A053-3D8069E3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6764-90EA-46F2-8ABB-E2158CAC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E40D-BE3B-4D00-96DD-1787718F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28C4-E268-46C2-BFE7-DEF7F345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C3F3-FFA0-4020-8BC7-176B9AA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EF18-6F96-4904-BD70-FFB5B684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EBBE-AA24-4133-8839-C65B6FC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66A2-A53B-4BD9-8838-247B044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75DB-DF97-4C32-B31D-CC4B2E8C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403E-D483-4C67-91A6-F6BA9D42AF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3B54-294E-47A5-B856-13BEC467D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oldables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™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active 3-D Organizers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Middle School/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rlene M. Wheaton, M.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rthwest Tri-County IU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raphic organi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-constructed visual displays used to organ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students in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student-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tools for diverse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in linking new information to prior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86600" y="1168560"/>
            <a:ext cx="153972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research-base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zano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nguistic representations have strong effects on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ly engaging students in the creation of nonlinguistic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and increases activity in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18748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05440" y="380880"/>
            <a:ext cx="1524240" cy="2286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or integral to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nine strate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 and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effort and providing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an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linguistic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objectives and providing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and testing 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es, questions, and advance organ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/learn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less in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order and completeness of student’s though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s and weaknesses of student understanding become clearly evident to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Language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words or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78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the learn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dvance organizer before the learn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ost organ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tudent-made study gu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orporat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and contr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ies and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orporat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n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0271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ng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form o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4470480"/>
            <a:ext cx="32004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are fo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everyo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P to GIEP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evels:  K –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reas:  Academics - Spe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2520" y="37339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9:30:58Z</dcterms:created>
  <dc:creator>wheatond</dc:creator>
  <dc:description/>
  <dc:language>en-US</dc:language>
  <cp:lastModifiedBy>wheatond</cp:lastModifiedBy>
  <dcterms:modified xsi:type="dcterms:W3CDTF">2007-10-02T19:31:29Z</dcterms:modified>
  <cp:revision>1</cp:revision>
  <dc:subject/>
  <dc:title>Foldables™: Interactive 3-D Organizers for Middle School/High School</dc:title>
</cp:coreProperties>
</file>